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44309-1B5B-474F-AD7E-EF72A4926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ve this slide up while you answer any questions (or until next speaker starts his/her talk) so people can copy down the UR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D5CF-D7EA-46E0-8402-3D9DEF757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74D0-4078-43FB-A8C7-A811EA6D2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388B-4FF9-437B-8488-4EA85A757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946C-3E04-4BB0-94CF-F96E7241B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8F30-E8C3-4462-9CD8-F097E53F0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87F7-B7E3-45E0-8DEA-363616191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AA34-A4F8-494E-91B1-D10A9D942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4AD2-389B-4066-85E5-07A92C567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8FD6-8E62-4E76-A003-318BAC771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FDAB-BF3E-47B6-9BED-484F6E12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62B1-24FF-4FE9-A001-861B0611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9C0A-63FF-470A-815C-0995FE1C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FDAC2-1FD8-4833-B5B8-F2C18D9CE4E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.fruitfly.org/annot/apollo/install.html" TargetMode="External"/><Relationship Id="rId2" Type="http://schemas.openxmlformats.org/officeDocument/2006/relationships/hyperlink" Target="http://ww.fruitfly.org/annot/apollo/install.html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Arial"/>
              </a:rPr>
              <a:t>Apollo Future Plans</a:t>
            </a:r>
            <a:br>
              <a:rPr sz="4800"/>
            </a:b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Nomi Harris, BDGP/FlyBase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040" y="5638320"/>
            <a:ext cx="7467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MOD Meeting, Cambrid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ril 27, 200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95280" y="2286000"/>
            <a:ext cx="67183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ore new view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ptide view (similar to Exon Detail Editor--would let you annotate cleavage sites, disulfide bonds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view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ll u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portunities for collabo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429000" y="2514600"/>
            <a:ext cx="548640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Support for fragmentary genom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genomes now being sequenced to low cove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support for viewing partial genomic assembli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ebstar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nt to be able to click on a Web link (e.g. for a transposable element) and have it launch Apollo on appropriate reg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rent webstart progres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unch empty Apollo (platform-independe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unch Apollo on specific region (but only with certain browsers on Linu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platform and browser independ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AME XML DTD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ME XML is still the most completely supported format in Apol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date GAME XML DTD (be sure to document "magic" properties, e.g. translation excep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quested by groups trying to convert their data to G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edesign tier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sual indication of whether a tier is expanded or collap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er labels/buttons on separate panel that scrolls along with main pan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tons launch tier/type edi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parent tiers that can be dragged around and overla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kinds of tiers, e.g. graphs (like GC content or gene densit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ynteny goal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Synteny view more robust as an editor (has mostly been tested as a brows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ove distinction between single-species Apollo and Synteny 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ght now, Synteny view assumes two spe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should always be in n-species mode, where sometimes n=1, sometimes n=2, and sometimes n&gt;2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uld be able to read data for different species from different  adap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Synteny navigation from whole-chromosome view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057400" y="1752480"/>
            <a:ext cx="48625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ore synteny goal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ow user to navigate between multiple disjoint contigs (e.g. for D. pseudoobscur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 similarity graph to show amount of conservation between spe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ynamic links with response to similarity graph threshold cha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tter ways to present comparative dat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Apollo Te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yBase/Berkele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zanna Lewis, Nomi Harris, Mark Gibson, Sima Mis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t contribu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nger Institu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eve Searle, Michele Clamp, Vivek Iy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HM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ohn Rich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yBase cura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GI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vid Goodstein (added regexps to Find; read/write JGI relational d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do adap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G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nathan Crabtr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533520" y="441936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aller available at </a:t>
            </a: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ww.fruitfly.org/annot/apollo/install.htm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de available at SourceForge: 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http://sourceforge.net/projects/gmod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1219320" y="609480"/>
            <a:ext cx="67183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Undo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o/redo individual ed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lete transcript, change 3’ end, add comment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action recording is first ste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nalysis adapter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er barrier to importing data into Apol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t you read raw analysis results (BLAST, sim4, GENSCAN, etc.) and filter appropriately (using integrated BO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ish debugging raw analysis loader; improve user interface; docu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 genomic to be subject (not just quer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matically figure out coordinate offset of analysis results by doing simple alig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Combining data adapters for concurrent load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 the ability to request data from multiple different sources from a single “Open” reques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 read a directory containing various raw analysis results on a sequ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ollo should figure out which type of results each file contains and parse/filter them appropriate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ed to define default filtering parameters for each input ty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yer data from multiple 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 read an XML file and then overlay with a GenBank sequ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hado adapter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apting TIGR’s (JDB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SO-compli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zy/selective loading for improved performance (time &amp; memor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sembl db adapter does t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ix memory leak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ollo uses a lot of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ory leaks needlessly waste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ns slowly on smaller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even freeze up your compu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enBank reader/writer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/debug new GenBank rea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able Apollo to write human-readable GenBank format (currently only writes feature tabl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re a table2human convert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omatically call table2asn (so you can run Sequi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nnotation of new feature typ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it possible to annotate non-gene features, e.g.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RNAs, peptides, transposable elements, sequence variations, etc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Apollo to read SO and use hierarchy of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rt the annotation of sequences other than genomic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Possible new editing interfaces needed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quence variation editor to annotate differences between current reference sequence and related sequ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notate SNPs and other allelic differ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liced-together gene 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 size of intr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ful for vertebrate gen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RNA 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8T03:56:12Z</dcterms:created>
  <dc:creator>Nomi Harris</dc:creator>
  <dc:description/>
  <dc:language>en-US</dc:language>
  <cp:lastModifiedBy>Nomi Haris</cp:lastModifiedBy>
  <dcterms:modified xsi:type="dcterms:W3CDTF">2004-04-27T01:49:54Z</dcterms:modified>
  <cp:revision>378</cp:revision>
  <dc:subject/>
  <dc:title>Slide 1</dc:title>
</cp:coreProperties>
</file>